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2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2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 type="sldNum" idx="2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0050-EC3B-43A5-A262-D1C6B12EF8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B9B5-A92C-4B65-92CA-9880B53997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D10D-D2E8-4239-B4A1-94E6F12A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6263-317F-4470-A766-D29E8DCB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1B5-E0C6-4AB9-9973-572A926A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59AB-8DF1-48D8-ACD8-90EB096BA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4933-3973-4A3C-891D-1BD0A628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0052-3FC2-4E20-8100-76D6C0E5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A160-AD70-4620-8708-68B80823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B4A5-80A2-49A8-BA90-9BA5DA82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A11B-5CA0-4D70-9178-A442130C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7A39-33C9-4DC2-B7A9-6A488CE9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1824-75CB-410C-A480-E151D473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368A-9882-40FE-93ED-C928763E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B428-1EFC-4849-B69C-FDDAF48A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CFE8-84D4-48BF-B16D-B02BADC3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9157-352F-4E5D-BAAC-D4829CB5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525E-2E15-4A04-BB83-57B07424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09F4-1925-4B36-B0C7-9F7BD600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01CBA-91A9-4943-AAC3-645F5050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1E545-8FDA-4E1B-825C-EDFD0407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C8971-2A15-42DD-ADD6-8772E320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ADCC9-667A-44BF-8F35-6DC3725D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7FADD-6618-4895-9B61-F2A2A1D6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4C4-3051-4C75-8D0F-248EB3A2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DF69E-7566-404A-80E0-D29BC2EE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5C96E-1BFB-40D5-BE79-1B15C338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FFCCF-FDDA-49F0-9618-D7B222F9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63B87-A435-4155-A8C6-09AC997C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2D5AD-8093-42DC-8625-B1CABE31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65F4D-53F1-45F4-A80D-9CD9DD11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CE2ED-31F7-43CC-BF72-6C432C83F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A084A-7968-410F-9CFD-A1385515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8AD3C-8EFF-423E-8529-74A2D18C9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EEF54-52B0-4321-A41D-2B6B6139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A739-78E8-499B-ACA6-3E179331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F9B64-2F16-4222-ADE8-D8835EC5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C6837-CD47-4466-B6FE-96A069B7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C200C-48B2-4F55-9F75-1B27765B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25503-1A3E-44DB-A2C6-880950D0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2A855-B2AA-4727-8180-78350DF9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9275B-9F64-43AC-A775-6FEA62AE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C63C2-C5F4-4619-A7A7-BA62F08A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62569-F5CE-444C-B685-00A2B410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EA05E-4890-4E70-8054-B8132AFC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E6767-5923-4AAD-B6E9-B3B9FEF3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CC1B-8351-48F5-9DEE-13BCF9FF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A587B-884C-4920-B8B3-D742BF69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62563-8863-488F-B0C1-3BEEDAFE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2D02E-006B-4728-A347-4374BBA87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00264-59E7-413D-BC8D-B80A62BC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D3C40-C522-4E0D-AD91-1CB613B9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40249-12AA-4774-8DEA-BAD4A804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E3884-09A9-42FB-8CFD-C21F6835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1364A-5B50-41B7-A703-FC481ECA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BBB2F-C757-4E3E-8254-86F0884F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33543-7B91-4F93-A375-7F32C3CC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D69-52F8-45F7-8B44-C63FF8EE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C07CC-0C45-4DDA-8D96-A808BCD9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A0969-37B9-497F-95CB-8496181B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0D200-4984-4981-A66A-A0C0C479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422D0-703B-4CCE-827C-9811FFC42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C1421-B77A-4FBD-BF72-764A9F94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590C5-614C-4BAF-8B72-B347A4C3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C0126-6931-4825-8FC2-AA568B13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0BE4F-15E4-4E00-B141-83BDC662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CCA11-C940-4B63-A987-4DAA58F3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98779-5176-47D4-A258-6EC81ADE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2526-DE5F-46A7-9B26-A44D59FC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8E6FB-9E31-4AE3-B53E-53A5E136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1F43E-AD39-41B4-8043-12ECFDFF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21DE8-F266-4931-BAE3-232F9A11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D757A-F916-4517-94E9-81E4C0A2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73336-9921-4AD8-9F86-728D0C56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91366-76F7-4833-821F-7E1BAF3B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253D3-B7CA-4D4A-B6FB-886AB61B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2E649-8115-42EC-BB04-316EBC5C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385A6-0CE5-4E67-838A-7C3111C4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CD326-D05E-4151-8DA8-20639780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41A-9469-46A8-8064-CC006E97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8C33B-B2DD-4B07-B62B-252431DE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87C0D-2D3F-4BE3-97B3-B60F1EFA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6BC04-F2C7-470C-9016-6C857761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7987B-7A2D-4FC4-AD19-CFD2E061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79E84-4D89-472A-B75F-59CC9666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2407-448C-421C-AD2C-75A12EDA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a5b59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3a44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7bc2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092a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bb89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EA42-A233-4C4A-A6FD-09D5DA355084}" type="slidenum">
              <a:rPr b="0" lang="ru-RU" sz="1000" spc="-1" strike="noStrike">
                <a:solidFill>
                  <a:srgbClr val="bbb8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70f"/>
            </a:gs>
            <a:gs pos="100000">
              <a:srgbClr val="838b7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a5b59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3a44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7bc2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092a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bb89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B620-1119-418D-AAB0-6DEFDA3AF1EB}" type="slidenum">
              <a:rPr b="0" lang="ru-RU" sz="1000" spc="-1" strike="noStrike">
                <a:solidFill>
                  <a:srgbClr val="bbb8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370f"/>
            </a:gs>
            <a:gs pos="100000">
              <a:srgbClr val="838b7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a5b59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3a44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7bc2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092a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bb89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1CD8-8AC7-480E-B2B5-33321AAA036D}" type="slidenum">
              <a:rPr b="0" lang="ru-RU" sz="1000" spc="-1" strike="noStrike">
                <a:solidFill>
                  <a:srgbClr val="bbb8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a5b59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3a44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7bc2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092a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bb89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FE16-34D8-418D-B974-DFFF8515DC60}" type="slidenum">
              <a:rPr b="0" lang="ru-RU" sz="1000" spc="-1" strike="noStrike">
                <a:solidFill>
                  <a:srgbClr val="bbb8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a5b59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3a44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7bc2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092a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bb89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2F16-B545-441B-BCE4-BB8510D229EC}" type="slidenum">
              <a:rPr b="0" lang="ru-RU" sz="1000" spc="-1" strike="noStrike">
                <a:solidFill>
                  <a:srgbClr val="bbb8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a5b59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3a44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7bc2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092a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bb89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BDDC-7123-4B90-A3AF-B0AD9B882931}" type="slidenum">
              <a:rPr b="0" lang="ru-RU" sz="1000" spc="-1" strike="noStrike">
                <a:solidFill>
                  <a:srgbClr val="bbb8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a5b592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f3a447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e7bc2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d092a7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bb8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FBC3-4356-484A-AC62-D9CCFB27C4AE}" type="slidenum">
              <a:rPr b="0" lang="ru-RU" sz="1000" spc="-1" strike="noStrike">
                <a:solidFill>
                  <a:srgbClr val="bbb89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8760" y="3336840"/>
            <a:ext cx="6480000" cy="230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28400" y="785880"/>
            <a:ext cx="69246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5e4a9"/>
                </a:solidFill>
                <a:latin typeface="Times New Roman"/>
                <a:ea typeface="Times New Roman"/>
              </a:rPr>
              <a:t>Организация работы методической службы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5e4a9"/>
                </a:solidFill>
                <a:latin typeface="Times New Roman"/>
                <a:ea typeface="Times New Roman"/>
              </a:rPr>
              <a:t>МБОУ СОШ № 4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Рисунок 3" descr="ш1"/>
          <p:cNvPicPr/>
          <p:nvPr/>
        </p:nvPicPr>
        <p:blipFill>
          <a:blip r:embed="rId1"/>
          <a:stretch/>
        </p:blipFill>
        <p:spPr>
          <a:xfrm>
            <a:off x="4000680" y="3143160"/>
            <a:ext cx="4929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42920" y="396720"/>
            <a:ext cx="792936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трудничеств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волжская социально-гуманитарная академия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Центр развития образования  городского округа Самара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ГОУВПО «Самарская государственная областная академия (Наяновой)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ИПКР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едицинский реабилитационный центр «Островок здоровья плюс»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dda"/>
                </a:solidFill>
                <a:latin typeface="Times New Roman"/>
                <a:ea typeface="Times New Roman"/>
              </a:rPr>
              <a:t>Направления работы методической службы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125000"/>
            <a:ext cx="7467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4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здание условий для роста педагогического и методического мастерства учител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ординация работы методических объединений учителей-предметни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изация психолого-педагогических семинар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ализация задач методической работы, поставленных на конкретный учебный год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 качества обученности учащихся, определение пути коррек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ение деятельности педагогического коллектива по повышению квалификации и аттестации педагогических кадр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едение внутришкольных семинаров, педагогических чтений, конкурсов, творческих отчет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4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смотрение  адаптированных программ спецкурсов, факультати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аседание МО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 учителей начальной школ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8" name="урок1.wmv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19308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Oval 4"/>
          <p:cNvSpPr/>
          <p:nvPr/>
        </p:nvSpPr>
        <p:spPr>
          <a:xfrm>
            <a:off x="228600" y="228600"/>
            <a:ext cx="2743200" cy="228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ОБЛЕМ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У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5"/>
          <p:cNvSpPr/>
          <p:nvPr/>
        </p:nvSpPr>
        <p:spPr>
          <a:xfrm>
            <a:off x="214200" y="2143080"/>
            <a:ext cx="2895840" cy="2286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РАЗВИВАЮЩЕ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УЧ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Oval 6"/>
          <p:cNvSpPr/>
          <p:nvPr/>
        </p:nvSpPr>
        <p:spPr>
          <a:xfrm>
            <a:off x="928800" y="4357800"/>
            <a:ext cx="2743200" cy="2286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ПОРН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ОНСПЕК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Oval 8"/>
          <p:cNvSpPr/>
          <p:nvPr/>
        </p:nvSpPr>
        <p:spPr>
          <a:xfrm>
            <a:off x="3143160" y="2786040"/>
            <a:ext cx="2743200" cy="2286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ОЕКТ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МЕТОД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2"/>
          <p:cNvSpPr/>
          <p:nvPr/>
        </p:nvSpPr>
        <p:spPr>
          <a:xfrm>
            <a:off x="5786280" y="1571760"/>
            <a:ext cx="2743200" cy="22860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НФОР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ЦИО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ЕХНОЛО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7"/>
          <p:cNvSpPr/>
          <p:nvPr/>
        </p:nvSpPr>
        <p:spPr>
          <a:xfrm>
            <a:off x="5715000" y="4071960"/>
            <a:ext cx="2743200" cy="2286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МОДУЛЬН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БЛОЧ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ЕХНОЛО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WordArt 13"/>
          <p:cNvSpPr txBox="1"/>
          <p:nvPr/>
        </p:nvSpPr>
        <p:spPr>
          <a:xfrm>
            <a:off x="609480" y="609480"/>
            <a:ext cx="19814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1d77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0%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1d77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6" name="WordArt 21"/>
          <p:cNvSpPr txBox="1"/>
          <p:nvPr/>
        </p:nvSpPr>
        <p:spPr>
          <a:xfrm>
            <a:off x="642960" y="2571840"/>
            <a:ext cx="19810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1d77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3%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1d77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WordArt 22"/>
          <p:cNvSpPr txBox="1"/>
          <p:nvPr/>
        </p:nvSpPr>
        <p:spPr>
          <a:xfrm>
            <a:off x="1357200" y="4857840"/>
            <a:ext cx="1981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1d77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%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1d77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WordArt 24"/>
          <p:cNvSpPr txBox="1"/>
          <p:nvPr/>
        </p:nvSpPr>
        <p:spPr>
          <a:xfrm>
            <a:off x="3571920" y="3214800"/>
            <a:ext cx="19810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1d77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5%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1d77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9" name="WordArt 27"/>
          <p:cNvSpPr txBox="1"/>
          <p:nvPr/>
        </p:nvSpPr>
        <p:spPr>
          <a:xfrm>
            <a:off x="6286680" y="4500720"/>
            <a:ext cx="19810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1d77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6%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1d77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0" name="WordArt 28"/>
          <p:cNvSpPr txBox="1"/>
          <p:nvPr/>
        </p:nvSpPr>
        <p:spPr>
          <a:xfrm>
            <a:off x="6286680" y="2071800"/>
            <a:ext cx="19810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1d77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3%</a:t>
            </a:r>
            <a:endParaRPr b="0" lang="en-US" sz="1800" spc="1" strike="noStrike">
              <a:ln w="19080">
                <a:solidFill>
                  <a:srgbClr val="ff6600"/>
                </a:solidFill>
                <a:miter/>
              </a:ln>
              <a:solidFill>
                <a:srgbClr val="f1d77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1" name="WordArt 29"/>
          <p:cNvSpPr txBox="1"/>
          <p:nvPr/>
        </p:nvSpPr>
        <p:spPr>
          <a:xfrm>
            <a:off x="2895480" y="152280"/>
            <a:ext cx="6019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1d77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ЬЗОВАНИЕ СОВРЕМЕННЫХ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1d77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1d77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1d77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РАЗОВАТЕЛЬНЫХ ТЕХНОЛОГИЙ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1d77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3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6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8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6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0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9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1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0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06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2010 – 2011 учебный год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есто – Областной  конкурс «Школа – территория здоровья»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есто в номинации «Социокультурная и просветительская деятельность образовательного учреждения» –  областной  конкурс "Образовательное учреждение – центр инновационного поиска"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12"/>
          <p:cNvGrpSpPr/>
          <p:nvPr/>
        </p:nvGrpSpPr>
        <p:grpSpPr>
          <a:xfrm>
            <a:off x="673560" y="1713240"/>
            <a:ext cx="2558160" cy="2916720"/>
            <a:chOff x="673560" y="1713240"/>
            <a:chExt cx="2558160" cy="2916720"/>
          </a:xfrm>
        </p:grpSpPr>
        <p:sp>
          <p:nvSpPr>
            <p:cNvPr id="405" name="Freeform 13"/>
            <p:cNvSpPr/>
            <p:nvPr/>
          </p:nvSpPr>
          <p:spPr>
            <a:xfrm rot="17961000">
              <a:off x="712800" y="3085560"/>
              <a:ext cx="1511280" cy="9637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963720"/>
                <a:gd name="textAreaBottom" fmla="*/ 963720 h 96372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14"/>
            <p:cNvSpPr/>
            <p:nvPr/>
          </p:nvSpPr>
          <p:spPr>
            <a:xfrm rot="17961000">
              <a:off x="2348280" y="2259720"/>
              <a:ext cx="782640" cy="6886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15"/>
            <p:cNvSpPr/>
            <p:nvPr/>
          </p:nvSpPr>
          <p:spPr>
            <a:xfrm rot="17961000">
              <a:off x="1961640" y="3204360"/>
              <a:ext cx="935280" cy="4287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16"/>
            <p:cNvSpPr/>
            <p:nvPr/>
          </p:nvSpPr>
          <p:spPr>
            <a:xfrm rot="17961000">
              <a:off x="577080" y="2518200"/>
              <a:ext cx="2611440" cy="1306440"/>
            </a:xfrm>
            <a:custGeom>
              <a:avLst/>
              <a:gdLst>
                <a:gd name="textAreaLeft" fmla="*/ 0 w 2611440"/>
                <a:gd name="textAreaRight" fmla="*/ 2611800 w 261144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Group 27"/>
          <p:cNvGrpSpPr/>
          <p:nvPr/>
        </p:nvGrpSpPr>
        <p:grpSpPr>
          <a:xfrm>
            <a:off x="5571720" y="1107360"/>
            <a:ext cx="1986480" cy="2626560"/>
            <a:chOff x="5571720" y="1107360"/>
            <a:chExt cx="1986480" cy="2626560"/>
          </a:xfrm>
        </p:grpSpPr>
        <p:sp>
          <p:nvSpPr>
            <p:cNvPr id="410" name="Freeform 28"/>
            <p:cNvSpPr/>
            <p:nvPr/>
          </p:nvSpPr>
          <p:spPr>
            <a:xfrm rot="6157800">
              <a:off x="6228720" y="1474560"/>
              <a:ext cx="1384560" cy="985680"/>
            </a:xfrm>
            <a:custGeom>
              <a:avLst/>
              <a:gdLst>
                <a:gd name="textAreaLeft" fmla="*/ 0 w 1384560"/>
                <a:gd name="textAreaRight" fmla="*/ 1384920 w 138456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29"/>
            <p:cNvSpPr/>
            <p:nvPr/>
          </p:nvSpPr>
          <p:spPr>
            <a:xfrm rot="6157800">
              <a:off x="5635080" y="2780640"/>
              <a:ext cx="716760" cy="704160"/>
            </a:xfrm>
            <a:custGeom>
              <a:avLst/>
              <a:gdLst>
                <a:gd name="textAreaLeft" fmla="*/ 0 w 716760"/>
                <a:gd name="textAreaRight" fmla="*/ 716760 w 716760"/>
                <a:gd name="textAreaTop" fmla="*/ 0 h 704160"/>
                <a:gd name="textAreaBottom" fmla="*/ 704520 h 70416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30"/>
            <p:cNvSpPr/>
            <p:nvPr/>
          </p:nvSpPr>
          <p:spPr>
            <a:xfrm rot="6157800">
              <a:off x="5609520" y="2114280"/>
              <a:ext cx="856800" cy="438480"/>
            </a:xfrm>
            <a:custGeom>
              <a:avLst/>
              <a:gdLst>
                <a:gd name="textAreaLeft" fmla="*/ 0 w 856800"/>
                <a:gd name="textAreaRight" fmla="*/ 857160 w 856800"/>
                <a:gd name="textAreaTop" fmla="*/ 0 h 438480"/>
                <a:gd name="textAreaBottom" fmla="*/ 438840 h 43848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31"/>
            <p:cNvSpPr/>
            <p:nvPr/>
          </p:nvSpPr>
          <p:spPr>
            <a:xfrm rot="6157800">
              <a:off x="5448240" y="1752480"/>
              <a:ext cx="2392560" cy="1335960"/>
            </a:xfrm>
            <a:custGeom>
              <a:avLst/>
              <a:gdLst>
                <a:gd name="textAreaLeft" fmla="*/ 0 w 2392560"/>
                <a:gd name="textAreaRight" fmla="*/ 2392920 w 2392560"/>
                <a:gd name="textAreaTop" fmla="*/ 0 h 1335960"/>
                <a:gd name="textAreaBottom" fmla="*/ 1336320 h 133596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4" name="Group 32"/>
          <p:cNvGrpSpPr/>
          <p:nvPr/>
        </p:nvGrpSpPr>
        <p:grpSpPr>
          <a:xfrm>
            <a:off x="3715560" y="4087800"/>
            <a:ext cx="2740320" cy="1623960"/>
            <a:chOff x="3715560" y="4087800"/>
            <a:chExt cx="2740320" cy="1623960"/>
          </a:xfrm>
        </p:grpSpPr>
        <p:sp>
          <p:nvSpPr>
            <p:cNvPr id="415" name="Freeform 33"/>
            <p:cNvSpPr/>
            <p:nvPr/>
          </p:nvSpPr>
          <p:spPr>
            <a:xfrm rot="10468800">
              <a:off x="4899240" y="4566960"/>
              <a:ext cx="1511280" cy="9637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963720"/>
                <a:gd name="textAreaBottom" fmla="*/ 963720 h 96372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34"/>
            <p:cNvSpPr/>
            <p:nvPr/>
          </p:nvSpPr>
          <p:spPr>
            <a:xfrm rot="10468800">
              <a:off x="3746880" y="4212000"/>
              <a:ext cx="782640" cy="6886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35"/>
            <p:cNvSpPr/>
            <p:nvPr/>
          </p:nvSpPr>
          <p:spPr>
            <a:xfrm rot="10468800">
              <a:off x="4515840" y="4131360"/>
              <a:ext cx="935280" cy="4287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6"/>
            <p:cNvSpPr/>
            <p:nvPr/>
          </p:nvSpPr>
          <p:spPr>
            <a:xfrm rot="10468800">
              <a:off x="3787560" y="4282560"/>
              <a:ext cx="2611440" cy="1306440"/>
            </a:xfrm>
            <a:custGeom>
              <a:avLst/>
              <a:gdLst>
                <a:gd name="textAreaLeft" fmla="*/ 0 w 2611440"/>
                <a:gd name="textAreaRight" fmla="*/ 2611800 w 261144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AutoShape 39"/>
          <p:cNvSpPr/>
          <p:nvPr/>
        </p:nvSpPr>
        <p:spPr>
          <a:xfrm>
            <a:off x="5929200" y="785880"/>
            <a:ext cx="2787840" cy="77940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РУГЛ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О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AutoShape 40"/>
          <p:cNvSpPr/>
          <p:nvPr/>
        </p:nvSpPr>
        <p:spPr>
          <a:xfrm>
            <a:off x="5715000" y="5143680"/>
            <a:ext cx="2589120" cy="145548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ПОРТИВНЫЕ ИГРЫ , БИБЛИОТЕЧНЫЕ УРО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AutoShape 43"/>
          <p:cNvSpPr/>
          <p:nvPr/>
        </p:nvSpPr>
        <p:spPr>
          <a:xfrm>
            <a:off x="228600" y="4191120"/>
            <a:ext cx="2228760" cy="86220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РОДИТЕЛЬСКИЕ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СОБРАНИЯ, КОНФЕРЕНЦИИ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Oval 44"/>
          <p:cNvGrpSpPr/>
          <p:nvPr/>
        </p:nvGrpSpPr>
        <p:grpSpPr>
          <a:xfrm>
            <a:off x="2425680" y="2786040"/>
            <a:ext cx="4035600" cy="1494000"/>
            <a:chOff x="2425680" y="2786040"/>
            <a:chExt cx="4035600" cy="1494000"/>
          </a:xfrm>
        </p:grpSpPr>
        <p:pic>
          <p:nvPicPr>
            <p:cNvPr id="423" name="Oval 44" descr=""/>
            <p:cNvPicPr/>
            <p:nvPr/>
          </p:nvPicPr>
          <p:blipFill>
            <a:blip r:embed="rId1"/>
            <a:stretch/>
          </p:blipFill>
          <p:spPr>
            <a:xfrm>
              <a:off x="2425680" y="2786040"/>
              <a:ext cx="403560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3068640" y="3054240"/>
              <a:ext cx="274788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Arial Black"/>
                </a:rPr>
                <a:t>ПРЕЕМСТВЕННОСТЬ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0000"/>
                  </a:solidFill>
                  <a:latin typeface="Arial Black"/>
                </a:rPr>
                <a:t>Школа дошкольника и  школа № 4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Group 45"/>
          <p:cNvGrpSpPr/>
          <p:nvPr/>
        </p:nvGrpSpPr>
        <p:grpSpPr>
          <a:xfrm>
            <a:off x="2438280" y="1371600"/>
            <a:ext cx="2611440" cy="1466640"/>
            <a:chOff x="2438280" y="1371600"/>
            <a:chExt cx="2611440" cy="1466640"/>
          </a:xfrm>
        </p:grpSpPr>
        <p:sp>
          <p:nvSpPr>
            <p:cNvPr id="426" name="Freeform 46"/>
            <p:cNvSpPr/>
            <p:nvPr/>
          </p:nvSpPr>
          <p:spPr>
            <a:xfrm>
              <a:off x="2440080" y="1376280"/>
              <a:ext cx="1511280" cy="96372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963720"/>
                <a:gd name="textAreaBottom" fmla="*/ 963720 h 963720"/>
              </a:gdLst>
              <a:ahLst/>
              <a:rect l="textAreaLeft" t="textAreaTop" r="textAreaRight" b="textAreaBottom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47"/>
            <p:cNvSpPr/>
            <p:nvPr/>
          </p:nvSpPr>
          <p:spPr>
            <a:xfrm>
              <a:off x="4267080" y="2149560"/>
              <a:ext cx="782640" cy="6886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48"/>
            <p:cNvSpPr/>
            <p:nvPr/>
          </p:nvSpPr>
          <p:spPr>
            <a:xfrm>
              <a:off x="3328920" y="2408040"/>
              <a:ext cx="935280" cy="4287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49"/>
            <p:cNvSpPr/>
            <p:nvPr/>
          </p:nvSpPr>
          <p:spPr>
            <a:xfrm>
              <a:off x="2438280" y="1371600"/>
              <a:ext cx="2611440" cy="1306440"/>
            </a:xfrm>
            <a:custGeom>
              <a:avLst/>
              <a:gdLst>
                <a:gd name="textAreaLeft" fmla="*/ 0 w 2611440"/>
                <a:gd name="textAreaRight" fmla="*/ 2611800 w 261144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AutoShape 50"/>
          <p:cNvSpPr/>
          <p:nvPr/>
        </p:nvSpPr>
        <p:spPr>
          <a:xfrm>
            <a:off x="285840" y="714240"/>
            <a:ext cx="2535120" cy="60948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ДНИ ОТКРЫТЫХ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ДВЕРЕЙ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Box 1"/>
          <p:cNvSpPr/>
          <p:nvPr/>
        </p:nvSpPr>
        <p:spPr>
          <a:xfrm>
            <a:off x="517320" y="2571840"/>
            <a:ext cx="783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1d77f"/>
                </a:solidFill>
                <a:latin typeface="Times New Roman"/>
                <a:ea typeface="Times New Roman"/>
              </a:rPr>
              <a:t>СПАСИБО ЗА ВНИМАНИЕ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95280" y="2571840"/>
            <a:ext cx="2016000" cy="105408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txBody>
          <a:bodyPr anchor="ctr">
            <a:normAutofit/>
          </a:bodyPr>
          <a:p>
            <a:pPr marL="419040" indent="-382680" algn="ctr">
              <a:lnSpc>
                <a:spcPct val="100000"/>
              </a:lnSpc>
              <a:spcBef>
                <a:spcPts val="4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чно-информационный цент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Блок-схема: подготовка 7"/>
          <p:cNvSpPr/>
          <p:nvPr/>
        </p:nvSpPr>
        <p:spPr>
          <a:xfrm>
            <a:off x="3071880" y="1143000"/>
            <a:ext cx="2928960" cy="1143000"/>
          </a:xfrm>
          <a:prstGeom prst="flowChartPreparation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ческая служб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6500880" y="2571840"/>
            <a:ext cx="2143080" cy="1071360"/>
          </a:xfrm>
          <a:prstGeom prst="rect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ьная конференция «Позитивная территори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Выноска с четырьмя стрелками 17"/>
          <p:cNvSpPr/>
          <p:nvPr/>
        </p:nvSpPr>
        <p:spPr>
          <a:xfrm>
            <a:off x="2500200" y="2286000"/>
            <a:ext cx="4000680" cy="1571760"/>
          </a:xfrm>
          <a:prstGeom prst="pie">
            <a:avLst/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директ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Группа 10"/>
          <p:cNvGrpSpPr/>
          <p:nvPr/>
        </p:nvGrpSpPr>
        <p:grpSpPr>
          <a:xfrm>
            <a:off x="500040" y="198360"/>
            <a:ext cx="8001000" cy="1500120"/>
            <a:chOff x="500040" y="198360"/>
            <a:chExt cx="8001000" cy="1500120"/>
          </a:xfrm>
        </p:grpSpPr>
        <p:sp>
          <p:nvSpPr>
            <p:cNvPr id="312" name="Скругленный прямоугольник 3"/>
            <p:cNvSpPr/>
            <p:nvPr/>
          </p:nvSpPr>
          <p:spPr>
            <a:xfrm>
              <a:off x="3500280" y="198360"/>
              <a:ext cx="1928880" cy="64296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1908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иректор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Прямоугольник 4"/>
            <p:cNvSpPr/>
            <p:nvPr/>
          </p:nvSpPr>
          <p:spPr>
            <a:xfrm>
              <a:off x="500040" y="269640"/>
              <a:ext cx="2143080" cy="1071720"/>
            </a:xfrm>
            <a:prstGeom prst="rect">
              <a:avLst/>
            </a:prstGeom>
            <a:solidFill>
              <a:srgbClr val="a5b592"/>
            </a:solidFill>
            <a:ln w="1908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трудничество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 внешними специалиста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Прямоугольник 6"/>
            <p:cNvSpPr/>
            <p:nvPr/>
          </p:nvSpPr>
          <p:spPr>
            <a:xfrm>
              <a:off x="6357960" y="198360"/>
              <a:ext cx="2143080" cy="1071720"/>
            </a:xfrm>
            <a:prstGeom prst="rect">
              <a:avLst/>
            </a:prstGeom>
            <a:solidFill>
              <a:srgbClr val="a5b592"/>
            </a:solidFill>
            <a:ln w="1908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ужба здоровь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15" name="Прямая со стрелкой 13"/>
            <p:cNvCxnSpPr>
              <a:stCxn id="312" idx="1"/>
              <a:endCxn id="313" idx="3"/>
            </p:cNvCxnSpPr>
            <p:nvPr/>
          </p:nvCxnSpPr>
          <p:spPr>
            <a:xfrm flipH="1">
              <a:off x="2642400" y="519480"/>
              <a:ext cx="857880" cy="284400"/>
            </a:xfrm>
            <a:prstGeom prst="straightConnector1">
              <a:avLst/>
            </a:prstGeom>
            <a:ln w="9360">
              <a:solidFill>
                <a:srgbClr val="85ac57"/>
              </a:solidFill>
              <a:miter/>
              <a:tailEnd len="med" type="arrow" w="med"/>
            </a:ln>
          </p:spPr>
        </p:cxnSp>
        <p:cxnSp>
          <p:nvCxnSpPr>
            <p:cNvPr id="316" name="Прямая со стрелкой 21"/>
            <p:cNvCxnSpPr/>
            <p:nvPr/>
          </p:nvCxnSpPr>
          <p:spPr>
            <a:xfrm>
              <a:off x="5500800" y="555480"/>
              <a:ext cx="786240" cy="357840"/>
            </a:xfrm>
            <a:prstGeom prst="straightConnector1">
              <a:avLst/>
            </a:prstGeom>
            <a:ln w="9360">
              <a:solidFill>
                <a:srgbClr val="85ac57"/>
              </a:solidFill>
              <a:miter/>
              <a:tailEnd len="med" type="arrow" w="med"/>
            </a:ln>
          </p:spPr>
        </p:cxnSp>
        <p:cxnSp>
          <p:nvCxnSpPr>
            <p:cNvPr id="317" name="Прямая со стрелкой 26"/>
            <p:cNvCxnSpPr>
              <a:endCxn id="308" idx="0"/>
            </p:cNvCxnSpPr>
            <p:nvPr/>
          </p:nvCxnSpPr>
          <p:spPr>
            <a:xfrm>
              <a:off x="4499640" y="698400"/>
              <a:ext cx="35640" cy="429120"/>
            </a:xfrm>
            <a:prstGeom prst="straightConnector1">
              <a:avLst/>
            </a:prstGeom>
            <a:ln w="9360">
              <a:solidFill>
                <a:srgbClr val="85ac57"/>
              </a:solidFill>
              <a:miter/>
              <a:tailEnd len="med" type="arrow" w="med"/>
            </a:ln>
          </p:spPr>
        </p:cxnSp>
        <p:cxnSp>
          <p:nvCxnSpPr>
            <p:cNvPr id="318" name="Прямая со стрелкой 28"/>
            <p:cNvCxnSpPr/>
            <p:nvPr/>
          </p:nvCxnSpPr>
          <p:spPr>
            <a:xfrm flipH="1" flipV="1">
              <a:off x="2571480" y="1340640"/>
              <a:ext cx="643320" cy="286200"/>
            </a:xfrm>
            <a:prstGeom prst="straightConnector1">
              <a:avLst/>
            </a:prstGeom>
            <a:ln w="9360">
              <a:solidFill>
                <a:srgbClr val="85ac57"/>
              </a:solidFill>
              <a:miter/>
              <a:tailEnd len="med" type="arrow" w="med"/>
            </a:ln>
          </p:spPr>
        </p:cxnSp>
        <p:cxnSp>
          <p:nvCxnSpPr>
            <p:cNvPr id="319" name="Прямая со стрелкой 32"/>
            <p:cNvCxnSpPr>
              <a:stCxn id="308" idx="3"/>
            </p:cNvCxnSpPr>
            <p:nvPr/>
          </p:nvCxnSpPr>
          <p:spPr>
            <a:xfrm flipV="1">
              <a:off x="6000480" y="1269720"/>
              <a:ext cx="572040" cy="429120"/>
            </a:xfrm>
            <a:prstGeom prst="straightConnector1">
              <a:avLst/>
            </a:prstGeom>
            <a:ln w="9360">
              <a:solidFill>
                <a:srgbClr val="85ac57"/>
              </a:solidFill>
              <a:miter/>
              <a:tailEnd len="med" type="arrow" w="med"/>
            </a:ln>
          </p:spPr>
        </p:cxnSp>
      </p:grpSp>
      <p:grpSp>
        <p:nvGrpSpPr>
          <p:cNvPr id="320" name="Группа 23"/>
          <p:cNvGrpSpPr/>
          <p:nvPr/>
        </p:nvGrpSpPr>
        <p:grpSpPr>
          <a:xfrm>
            <a:off x="500040" y="3929040"/>
            <a:ext cx="8358120" cy="2714760"/>
            <a:chOff x="500040" y="3929040"/>
            <a:chExt cx="8358120" cy="2714760"/>
          </a:xfrm>
        </p:grpSpPr>
        <p:sp>
          <p:nvSpPr>
            <p:cNvPr id="321" name="Прямоугольник 12"/>
            <p:cNvSpPr/>
            <p:nvPr/>
          </p:nvSpPr>
          <p:spPr>
            <a:xfrm>
              <a:off x="571320" y="3929040"/>
              <a:ext cx="8215560" cy="500040"/>
            </a:xfrm>
            <a:prstGeom prst="rect">
              <a:avLst/>
            </a:prstGeom>
            <a:solidFill>
              <a:srgbClr val="a5b592"/>
            </a:solidFill>
            <a:ln w="1908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едагогический коллектив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оугольник 18"/>
            <p:cNvSpPr/>
            <p:nvPr/>
          </p:nvSpPr>
          <p:spPr>
            <a:xfrm>
              <a:off x="642600" y="6143760"/>
              <a:ext cx="8215560" cy="500040"/>
            </a:xfrm>
            <a:prstGeom prst="rect">
              <a:avLst/>
            </a:prstGeom>
            <a:solidFill>
              <a:srgbClr val="a5b592"/>
            </a:solidFill>
            <a:ln w="1908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ременные творческие групп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Двойная стрелка вверх/вниз 20"/>
            <p:cNvSpPr/>
            <p:nvPr/>
          </p:nvSpPr>
          <p:spPr>
            <a:xfrm>
              <a:off x="500040" y="4429080"/>
              <a:ext cx="1143000" cy="1714680"/>
            </a:xfrm>
            <a:prstGeom prst="upDownArrow">
              <a:avLst>
                <a:gd name="adj1" fmla="val 50000"/>
                <a:gd name="adj2" fmla="val 50005"/>
              </a:avLst>
            </a:prstGeom>
            <a:solidFill>
              <a:srgbClr val="a5b592"/>
            </a:solidFill>
            <a:ln w="1908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 начальной школы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Двойная стрелка вверх/вниз 40"/>
            <p:cNvSpPr/>
            <p:nvPr/>
          </p:nvSpPr>
          <p:spPr>
            <a:xfrm>
              <a:off x="1785960" y="4429080"/>
              <a:ext cx="1214280" cy="1714680"/>
            </a:xfrm>
            <a:prstGeom prst="upDownArrow">
              <a:avLst>
                <a:gd name="adj1" fmla="val 50000"/>
                <a:gd name="adj2" fmla="val 50011"/>
              </a:avLst>
            </a:prstGeom>
            <a:solidFill>
              <a:srgbClr val="a5b592"/>
            </a:solidFill>
            <a:ln w="1908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 русского язык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Двойная стрелка вверх/вниз 41"/>
            <p:cNvSpPr/>
            <p:nvPr/>
          </p:nvSpPr>
          <p:spPr>
            <a:xfrm>
              <a:off x="3143160" y="4429080"/>
              <a:ext cx="1214280" cy="1714680"/>
            </a:xfrm>
            <a:prstGeom prst="upDownArrow">
              <a:avLst>
                <a:gd name="adj1" fmla="val 50000"/>
                <a:gd name="adj2" fmla="val 50011"/>
              </a:avLst>
            </a:prstGeom>
            <a:solidFill>
              <a:srgbClr val="a5b592"/>
            </a:solidFill>
            <a:ln w="1908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 математик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Двойная стрелка вверх/вниз 42"/>
            <p:cNvSpPr/>
            <p:nvPr/>
          </p:nvSpPr>
          <p:spPr>
            <a:xfrm>
              <a:off x="4500360" y="4429080"/>
              <a:ext cx="1271520" cy="1714680"/>
            </a:xfrm>
            <a:prstGeom prst="upDownArrow">
              <a:avLst>
                <a:gd name="adj1" fmla="val 50000"/>
                <a:gd name="adj2" fmla="val 50008"/>
              </a:avLst>
            </a:prstGeom>
            <a:solidFill>
              <a:srgbClr val="a5b592"/>
            </a:solidFill>
            <a:ln w="1908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 истории и географии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Двойная стрелка вверх/вниз 43"/>
            <p:cNvSpPr/>
            <p:nvPr/>
          </p:nvSpPr>
          <p:spPr>
            <a:xfrm>
              <a:off x="6000840" y="4429080"/>
              <a:ext cx="1285920" cy="1714680"/>
            </a:xfrm>
            <a:prstGeom prst="upDownArrow">
              <a:avLst>
                <a:gd name="adj1" fmla="val 50000"/>
                <a:gd name="adj2" fmla="val 50003"/>
              </a:avLst>
            </a:prstGeom>
            <a:solidFill>
              <a:srgbClr val="a5b592"/>
            </a:solidFill>
            <a:ln w="1908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 пред.естественного цикл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Двойная стрелка вверх/вниз 22"/>
            <p:cNvSpPr/>
            <p:nvPr/>
          </p:nvSpPr>
          <p:spPr>
            <a:xfrm>
              <a:off x="7500960" y="4429080"/>
              <a:ext cx="1128600" cy="1714680"/>
            </a:xfrm>
            <a:prstGeom prst="upDownArrow">
              <a:avLst>
                <a:gd name="adj1" fmla="val 50000"/>
                <a:gd name="adj2" fmla="val 50010"/>
              </a:avLst>
            </a:prstGeom>
            <a:solidFill>
              <a:srgbClr val="a5b592"/>
            </a:solidFill>
            <a:ln w="19080">
              <a:solidFill>
                <a:srgbClr val="7884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 английского язык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115120" cy="1571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1d77f"/>
                </a:solidFill>
                <a:latin typeface="Times New Roman"/>
                <a:ea typeface="Times New Roman"/>
              </a:rPr>
              <a:t>Тема работы   методической службы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циокультурный центр «Здоровое поколение» как средство социализации учащихся общеобразовательной школы»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99680" y="178596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Рисунок 3" descr="МОДЕЛЬ[1].JPG"/>
          <p:cNvPicPr/>
          <p:nvPr/>
        </p:nvPicPr>
        <p:blipFill>
          <a:blip r:embed="rId1"/>
          <a:stretch/>
        </p:blipFill>
        <p:spPr>
          <a:xfrm>
            <a:off x="785880" y="1928880"/>
            <a:ext cx="735804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5e4a9"/>
                </a:solidFill>
                <a:latin typeface="Franklin Gothic Book"/>
              </a:rPr>
              <a:t>Задачи методической службы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править работу ШМ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 повышение качества обуче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явление, обобщение и распространение положительного опыта творчески работающих учителей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a5b592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вышение качества проведения занятий на основе внедрения новых образовательных технологий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3"/>
          <p:cNvGrpSpPr/>
          <p:nvPr/>
        </p:nvGrpSpPr>
        <p:grpSpPr>
          <a:xfrm>
            <a:off x="785880" y="1714680"/>
            <a:ext cx="8129160" cy="469800"/>
            <a:chOff x="785880" y="1714680"/>
            <a:chExt cx="8129160" cy="469800"/>
          </a:xfrm>
        </p:grpSpPr>
        <p:sp>
          <p:nvSpPr>
            <p:cNvPr id="335" name="AutoShape 4"/>
            <p:cNvSpPr/>
            <p:nvPr/>
          </p:nvSpPr>
          <p:spPr>
            <a:xfrm>
              <a:off x="914040" y="1752840"/>
              <a:ext cx="8001000" cy="43164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5"/>
            <p:cNvSpPr/>
            <p:nvPr/>
          </p:nvSpPr>
          <p:spPr>
            <a:xfrm>
              <a:off x="785880" y="1714680"/>
              <a:ext cx="762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ПРАВЛЕНЧЕСКИЙ БЛОК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6"/>
          <p:cNvGrpSpPr/>
          <p:nvPr/>
        </p:nvGrpSpPr>
        <p:grpSpPr>
          <a:xfrm>
            <a:off x="914400" y="2362320"/>
            <a:ext cx="8000640" cy="399600"/>
            <a:chOff x="914400" y="2362320"/>
            <a:chExt cx="8000640" cy="399600"/>
          </a:xfrm>
        </p:grpSpPr>
        <p:sp>
          <p:nvSpPr>
            <p:cNvPr id="338" name="AutoShape 7"/>
            <p:cNvSpPr/>
            <p:nvPr/>
          </p:nvSpPr>
          <p:spPr>
            <a:xfrm>
              <a:off x="914400" y="2398680"/>
              <a:ext cx="8000640" cy="36324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Text Box 8"/>
            <p:cNvSpPr/>
            <p:nvPr/>
          </p:nvSpPr>
          <p:spPr>
            <a:xfrm>
              <a:off x="1065600" y="2362320"/>
              <a:ext cx="762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ННОВАЦИОННАЯ   И ЭКСПЕРИМЕНТАЛЬНАЯ ДЕЯТЕЛЬНОСТЬ</a:t>
              </a: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Group 9"/>
          <p:cNvGrpSpPr/>
          <p:nvPr/>
        </p:nvGrpSpPr>
        <p:grpSpPr>
          <a:xfrm>
            <a:off x="914400" y="3581280"/>
            <a:ext cx="8000640" cy="825120"/>
            <a:chOff x="914400" y="3581280"/>
            <a:chExt cx="8000640" cy="825120"/>
          </a:xfrm>
        </p:grpSpPr>
        <p:sp>
          <p:nvSpPr>
            <p:cNvPr id="341" name="AutoShape 10"/>
            <p:cNvSpPr/>
            <p:nvPr/>
          </p:nvSpPr>
          <p:spPr>
            <a:xfrm>
              <a:off x="914400" y="3644640"/>
              <a:ext cx="8000640" cy="76176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11"/>
            <p:cNvSpPr/>
            <p:nvPr/>
          </p:nvSpPr>
          <p:spPr>
            <a:xfrm>
              <a:off x="1064880" y="3581280"/>
              <a:ext cx="76237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ФЕССИОНАЛЬНОЕ САМООБРАЗОВАН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ДАГОГИЧЕСКОГО КОЛЛЕКТИ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Group 12"/>
          <p:cNvGrpSpPr/>
          <p:nvPr/>
        </p:nvGrpSpPr>
        <p:grpSpPr>
          <a:xfrm>
            <a:off x="914400" y="2971800"/>
            <a:ext cx="8000640" cy="412920"/>
            <a:chOff x="914400" y="2971800"/>
            <a:chExt cx="8000640" cy="412920"/>
          </a:xfrm>
        </p:grpSpPr>
        <p:sp>
          <p:nvSpPr>
            <p:cNvPr id="344" name="AutoShape 13"/>
            <p:cNvSpPr/>
            <p:nvPr/>
          </p:nvSpPr>
          <p:spPr>
            <a:xfrm>
              <a:off x="914400" y="3002400"/>
              <a:ext cx="8000640" cy="38232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14"/>
            <p:cNvSpPr/>
            <p:nvPr/>
          </p:nvSpPr>
          <p:spPr>
            <a:xfrm>
              <a:off x="914400" y="2971800"/>
              <a:ext cx="800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ШКОЛЬНАЯ НАУЧНАЯ ДЕЯТЕЛЬ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Group 15"/>
          <p:cNvGrpSpPr/>
          <p:nvPr/>
        </p:nvGrpSpPr>
        <p:grpSpPr>
          <a:xfrm>
            <a:off x="914400" y="4724280"/>
            <a:ext cx="8000640" cy="433440"/>
            <a:chOff x="914400" y="4724280"/>
            <a:chExt cx="8000640" cy="433440"/>
          </a:xfrm>
        </p:grpSpPr>
        <p:sp>
          <p:nvSpPr>
            <p:cNvPr id="347" name="AutoShape 16"/>
            <p:cNvSpPr/>
            <p:nvPr/>
          </p:nvSpPr>
          <p:spPr>
            <a:xfrm>
              <a:off x="914400" y="4724280"/>
              <a:ext cx="8000640" cy="43344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Text Box 17"/>
            <p:cNvSpPr/>
            <p:nvPr/>
          </p:nvSpPr>
          <p:spPr>
            <a:xfrm>
              <a:off x="914400" y="4728240"/>
              <a:ext cx="800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ЕЗЕНТАЦИЯ РЕЗУЛЬТАТОВ ДЕЯТЕЛЬНОСТИ ПЕДАГОГ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Group 18"/>
          <p:cNvGrpSpPr/>
          <p:nvPr/>
        </p:nvGrpSpPr>
        <p:grpSpPr>
          <a:xfrm>
            <a:off x="914400" y="5486400"/>
            <a:ext cx="7924320" cy="456840"/>
            <a:chOff x="914400" y="5486400"/>
            <a:chExt cx="7924320" cy="456840"/>
          </a:xfrm>
        </p:grpSpPr>
        <p:sp>
          <p:nvSpPr>
            <p:cNvPr id="350" name="AutoShape 19"/>
            <p:cNvSpPr/>
            <p:nvPr/>
          </p:nvSpPr>
          <p:spPr>
            <a:xfrm>
              <a:off x="993600" y="5521320"/>
              <a:ext cx="7845120" cy="421920"/>
            </a:xfrm>
            <a:prstGeom prst="roundRect">
              <a:avLst>
                <a:gd name="adj" fmla="val 16667"/>
              </a:avLst>
            </a:prstGeom>
            <a:solidFill>
              <a:srgbClr val="a5b592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Text Box 20"/>
            <p:cNvSpPr/>
            <p:nvPr/>
          </p:nvSpPr>
          <p:spPr>
            <a:xfrm>
              <a:off x="914400" y="5486400"/>
              <a:ext cx="776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ИАГНОСТИЧЕСКАЯ     ДЕЯТЕЛЬНОСТЬ</a:t>
              </a: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TextBox 20"/>
          <p:cNvSpPr/>
          <p:nvPr/>
        </p:nvSpPr>
        <p:spPr>
          <a:xfrm>
            <a:off x="314640" y="357120"/>
            <a:ext cx="85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1d77f"/>
                </a:solidFill>
                <a:latin typeface="Times New Roman"/>
                <a:ea typeface="Times New Roman"/>
              </a:rPr>
              <a:t>НАПРАВЛЕНИЯ  МЕТОДИЧЕСКОЙ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AutoShape 11"/>
          <p:cNvSpPr/>
          <p:nvPr/>
        </p:nvSpPr>
        <p:spPr>
          <a:xfrm>
            <a:off x="142920" y="246240"/>
            <a:ext cx="2286000" cy="76176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едсов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14"/>
          <p:cNvSpPr/>
          <p:nvPr/>
        </p:nvSpPr>
        <p:spPr>
          <a:xfrm>
            <a:off x="2438280" y="152280"/>
            <a:ext cx="2057400" cy="106704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Мет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овещ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15"/>
          <p:cNvSpPr/>
          <p:nvPr/>
        </p:nvSpPr>
        <p:spPr>
          <a:xfrm>
            <a:off x="152280" y="4648320"/>
            <a:ext cx="2438640" cy="10666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облем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груп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16"/>
          <p:cNvSpPr/>
          <p:nvPr/>
        </p:nvSpPr>
        <p:spPr>
          <a:xfrm>
            <a:off x="571680" y="1000080"/>
            <a:ext cx="213336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Школь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М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609480" y="3733920"/>
            <a:ext cx="2133720" cy="106668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ругл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т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20"/>
          <p:cNvSpPr/>
          <p:nvPr/>
        </p:nvSpPr>
        <p:spPr>
          <a:xfrm>
            <a:off x="428760" y="1928880"/>
            <a:ext cx="2286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Мет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21"/>
          <p:cNvSpPr/>
          <p:nvPr/>
        </p:nvSpPr>
        <p:spPr>
          <a:xfrm>
            <a:off x="285840" y="2857680"/>
            <a:ext cx="2286000" cy="914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едмет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нед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24"/>
          <p:cNvSpPr/>
          <p:nvPr/>
        </p:nvSpPr>
        <p:spPr>
          <a:xfrm>
            <a:off x="838080" y="5572080"/>
            <a:ext cx="2590920" cy="113364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вор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тчеты М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26"/>
          <p:cNvSpPr/>
          <p:nvPr/>
        </p:nvSpPr>
        <p:spPr>
          <a:xfrm>
            <a:off x="6215040" y="5500800"/>
            <a:ext cx="2357640" cy="11430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Шк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молод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уч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AutoShape 27"/>
          <p:cNvSpPr/>
          <p:nvPr/>
        </p:nvSpPr>
        <p:spPr>
          <a:xfrm>
            <a:off x="6643800" y="4286160"/>
            <a:ext cx="2500200" cy="121464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емина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актику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28"/>
          <p:cNvSpPr/>
          <p:nvPr/>
        </p:nvSpPr>
        <p:spPr>
          <a:xfrm>
            <a:off x="6786720" y="3143160"/>
            <a:ext cx="2357280" cy="11430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Творческ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онк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29"/>
          <p:cNvSpPr/>
          <p:nvPr/>
        </p:nvSpPr>
        <p:spPr>
          <a:xfrm>
            <a:off x="3357720" y="5357880"/>
            <a:ext cx="2971800" cy="11430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едагогическ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есан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30"/>
          <p:cNvSpPr/>
          <p:nvPr/>
        </p:nvSpPr>
        <p:spPr>
          <a:xfrm>
            <a:off x="6095880" y="1214280"/>
            <a:ext cx="3048120" cy="106704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Аттестац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учителей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Black"/>
              </a:rPr>
              <a:t>наставничеств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31"/>
          <p:cNvSpPr/>
          <p:nvPr/>
        </p:nvSpPr>
        <p:spPr>
          <a:xfrm>
            <a:off x="6715080" y="214200"/>
            <a:ext cx="2286000" cy="106704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урсо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одготов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32"/>
          <p:cNvSpPr/>
          <p:nvPr/>
        </p:nvSpPr>
        <p:spPr>
          <a:xfrm>
            <a:off x="4495680" y="152280"/>
            <a:ext cx="2286000" cy="106704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едагоги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мониторин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33"/>
          <p:cNvSpPr/>
          <p:nvPr/>
        </p:nvSpPr>
        <p:spPr>
          <a:xfrm>
            <a:off x="6629400" y="2286000"/>
            <a:ext cx="2514600" cy="833400"/>
          </a:xfrm>
          <a:prstGeom prst="roundRect">
            <a:avLst>
              <a:gd name="adj" fmla="val 16667"/>
            </a:avLst>
          </a:prstGeom>
          <a:solidFill>
            <a:srgbClr val="a5b592"/>
          </a:solidFill>
          <a:ln w="1908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Деловые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18"/>
          <p:cNvSpPr/>
          <p:nvPr/>
        </p:nvSpPr>
        <p:spPr>
          <a:xfrm>
            <a:off x="2786040" y="2357280"/>
            <a:ext cx="407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1d77f"/>
                </a:solidFill>
                <a:latin typeface="Times New Roman"/>
                <a:ea typeface="Times New Roman"/>
              </a:rPr>
              <a:t>ФОРМ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1d77f"/>
                </a:solidFill>
                <a:latin typeface="Times New Roman"/>
                <a:ea typeface="Times New Roman"/>
              </a:rPr>
              <a:t>МЕТОДИЧЕСКОЙ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1d77f"/>
                </a:solidFill>
                <a:latin typeface="Times New Roman"/>
                <a:ea typeface="Times New Roman"/>
              </a:rPr>
              <a:t>РАБОТ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кольная научно-практическая конференция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озитивная территория»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71" name="Содержимое 3" descr="2011-12-26 10.56.04.jpg"/>
          <p:cNvPicPr/>
          <p:nvPr/>
        </p:nvPicPr>
        <p:blipFill>
          <a:blip r:embed="rId1"/>
          <a:stretch/>
        </p:blipFill>
        <p:spPr>
          <a:xfrm>
            <a:off x="285840" y="1571760"/>
            <a:ext cx="2262240" cy="169704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4" descr="CIMG4157.JPG"/>
          <p:cNvPicPr/>
          <p:nvPr/>
        </p:nvPicPr>
        <p:blipFill>
          <a:blip r:embed="rId2"/>
          <a:stretch/>
        </p:blipFill>
        <p:spPr>
          <a:xfrm>
            <a:off x="2571840" y="192888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5" descr="CIMG4166.JPG"/>
          <p:cNvPicPr/>
          <p:nvPr/>
        </p:nvPicPr>
        <p:blipFill>
          <a:blip r:embed="rId3"/>
          <a:stretch/>
        </p:blipFill>
        <p:spPr>
          <a:xfrm>
            <a:off x="4786200" y="257184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6" descr="CIMG4172.JPG"/>
          <p:cNvPicPr/>
          <p:nvPr/>
        </p:nvPicPr>
        <p:blipFill>
          <a:blip r:embed="rId4"/>
          <a:stretch/>
        </p:blipFill>
        <p:spPr>
          <a:xfrm>
            <a:off x="214200" y="4572000"/>
            <a:ext cx="2381400" cy="178596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7" descr="CIMG4185.JPG"/>
          <p:cNvPicPr/>
          <p:nvPr/>
        </p:nvPicPr>
        <p:blipFill>
          <a:blip r:embed="rId5"/>
          <a:stretch/>
        </p:blipFill>
        <p:spPr>
          <a:xfrm>
            <a:off x="2714760" y="378612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8" descr="CIMG4194.JPG"/>
          <p:cNvPicPr/>
          <p:nvPr/>
        </p:nvPicPr>
        <p:blipFill>
          <a:blip r:embed="rId6"/>
          <a:stretch/>
        </p:blipFill>
        <p:spPr>
          <a:xfrm>
            <a:off x="6357960" y="478620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9" descr="IMG_0860.jpg"/>
          <p:cNvPicPr/>
          <p:nvPr/>
        </p:nvPicPr>
        <p:blipFill>
          <a:blip r:embed="rId7"/>
          <a:stretch/>
        </p:blipFill>
        <p:spPr>
          <a:xfrm>
            <a:off x="6786720" y="171468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11" descr="IMG_0864.jpg"/>
          <p:cNvPicPr/>
          <p:nvPr/>
        </p:nvPicPr>
        <p:blipFill>
          <a:blip r:embed="rId8"/>
          <a:stretch/>
        </p:blipFill>
        <p:spPr>
          <a:xfrm>
            <a:off x="4357800" y="5357880"/>
            <a:ext cx="16192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Неделя начальной школы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0" name="TextBox 3"/>
          <p:cNvSpPr/>
          <p:nvPr/>
        </p:nvSpPr>
        <p:spPr>
          <a:xfrm>
            <a:off x="500040" y="12859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Сказка.wmv" descr=""/>
          <p:cNvPicPr/>
          <p:nvPr/>
        </p:nvPicPr>
        <p:blipFill>
          <a:blip r:embed="rId1"/>
          <a:stretch/>
        </p:blipFill>
        <p:spPr>
          <a:xfrm>
            <a:off x="934920" y="1025640"/>
            <a:ext cx="723744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d77f"/>
                </a:solidFill>
                <a:latin typeface="Times New Roman"/>
                <a:ea typeface="Times New Roman"/>
              </a:rPr>
              <a:t>В контексте единой методической темы МОУ школы № 45 предметные методические объединения организуют свою работу по следующим методическим темам: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457200" y="1357200"/>
          <a:ext cx="8258040" cy="4551480"/>
        </p:xfrm>
        <a:graphic>
          <a:graphicData uri="http://schemas.openxmlformats.org/drawingml/2006/table">
            <a:tbl>
              <a:tblPr/>
              <a:tblGrid>
                <a:gridCol w="4129200"/>
                <a:gridCol w="4128840"/>
              </a:tblGrid>
              <a:tr h="1076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 учителей начальных классов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своение федерального государственного образовательного стандарта начального общего образования второго поко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1076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 учителей русского языка и литератур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равственное и художественно – эстетическое развитие учащихся в процессе обучения русскому языку и литератур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 учителей английского язы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циализация учащихся образовательной школы  через знакомство с культурой других стран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 учителей математики и информат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циализация учащихся образовательной школы  через  задания практической направленност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750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 учителей естественных нау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доровьесбережение участников образовательного процесс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 учителей истории и географ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ирование личностных ценностей ученика  через призму гвенно-петриотического и гражданского воспит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09:11:10Z</dcterms:created>
  <dc:creator>Admin</dc:creator>
  <dc:description/>
  <dc:language>en-US</dc:language>
  <cp:lastModifiedBy>Ученик</cp:lastModifiedBy>
  <dcterms:modified xsi:type="dcterms:W3CDTF">2012-02-29T10:57:03Z</dcterms:modified>
  <cp:revision>95</cp:revision>
  <dc:subject/>
  <dc:title>Слайд 1</dc:title>
</cp:coreProperties>
</file>